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047-C724-4CB7-81DC-0403A4D5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508-8685-4511-90D2-BD3F9939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0E0-8D41-4FE4-B789-3E0E8B61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B77-04DE-4AB4-878E-F415A1A3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C533-B263-4CB2-800A-04156010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3407-079C-4F80-AB34-F7BFBC86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1D1C-55CB-41E3-A009-43DF42C0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2D0E-D77C-4A51-9BF5-E8AA9B17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FF59-6A8E-4D47-AC12-5373DE24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142D-8386-424E-A40C-8BE563D0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5249-9DBB-4369-A1DB-E1E034C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C17-B51E-4C51-95EE-2E9A47A6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0564-6B8C-4D12-BF56-92BB63A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B132-1CC0-49D8-8DDB-65564229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7D80-6DDB-4D10-AB9F-4E957151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FF1C-364F-4CCA-9E09-F06C009C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D10E-9CD9-44A9-BFCD-7753FBAC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2B1-4BDE-44F8-BB0C-85CB94B5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E11-37CD-4ADC-BDD8-C04B5CD7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81D-9E97-4C0E-B2AC-1E4723F2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649-DC4E-41EC-AF27-305960EA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AF7-4AE7-4EC0-8169-C723FF2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96C-1AD0-4AE7-A34E-7A081A5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FB5-24FB-47FD-8F8F-0F559534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5DFA-4CD6-42D1-BB4B-438300C2E0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201D-3A8E-46C6-8ACC-E656558D8F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3500280"/>
            <a:ext cx="53276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一节  写作基础知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二节  公文特点、作用与格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三节  常用公文的写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98100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十二章  机关事业单位工勤人员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公文写作基础</a:t>
            </a:r>
            <a:r>
              <a:rPr b="0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图片5" descr=""/>
          <p:cNvPicPr/>
          <p:nvPr/>
        </p:nvPicPr>
        <p:blipFill>
          <a:blip r:embed="rId1"/>
          <a:stretch/>
        </p:blipFill>
        <p:spPr>
          <a:xfrm rot="20766000">
            <a:off x="6156000" y="4292640"/>
            <a:ext cx="1981080" cy="181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2708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掌握公文写作的基本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47640" y="1700280"/>
            <a:ext cx="590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一、文章的主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主题的含义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主题的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主题的要求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主题与标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981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一节  写作基础知识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2997360"/>
            <a:ext cx="6912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二、文章的材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材料的概念和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种类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直—间接；历史—现实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正—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反面；典型—一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采集：广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.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多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观察体验、调查研究、阅读摘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选取：精选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真实性  准确性  典型性  新颖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加工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去粗取精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去伪存真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由此及彼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由表及里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使用：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顺序得当、详略适宜、叙述生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98328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三、文章的结构 </a:t>
            </a:r>
            <a:br>
              <a:rPr sz="3200"/>
            </a:br>
            <a:br>
              <a:rPr sz="800"/>
            </a:b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文章写作的关键—谋篇布局</a:t>
            </a: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元朝乔梦符“六字诀”：  </a:t>
            </a:r>
            <a:r>
              <a:rPr b="0" lang="zh-CN" sz="2600" spc="-1" strike="noStrike">
                <a:solidFill>
                  <a:srgbClr val="333300"/>
                </a:solidFill>
                <a:latin typeface="微软雅黑"/>
                <a:ea typeface="微软雅黑"/>
              </a:rPr>
              <a:t>凤头猪肚豹尾</a:t>
            </a:r>
            <a:r>
              <a:rPr b="0" lang="zh-CN" sz="2600" spc="-1" strike="noStrike">
                <a:solidFill>
                  <a:srgbClr val="221304"/>
                </a:solidFill>
                <a:latin typeface="微软雅黑"/>
                <a:ea typeface="微软雅黑"/>
              </a:rPr>
              <a:t> </a:t>
            </a:r>
            <a:br>
              <a:rPr sz="2600"/>
            </a:b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明代谢榛“炮竹撞钟”说：</a:t>
            </a:r>
            <a:r>
              <a:rPr b="0" lang="zh-CN" sz="2600" spc="-1" strike="noStrike">
                <a:solidFill>
                  <a:srgbClr val="333300"/>
                </a:solidFill>
                <a:latin typeface="微软雅黑"/>
                <a:ea typeface="微软雅黑"/>
              </a:rPr>
              <a:t>开头炮竹，尾撞钟</a:t>
            </a:r>
            <a:br>
              <a:rPr sz="2600"/>
            </a:b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“见山  截马”说：</a:t>
            </a:r>
            <a:r>
              <a:rPr b="0" lang="zh-CN" sz="2600" spc="-1" strike="noStrike">
                <a:solidFill>
                  <a:srgbClr val="333300"/>
                </a:solidFill>
                <a:latin typeface="微软雅黑"/>
                <a:ea typeface="微软雅黑"/>
              </a:rPr>
              <a:t>开门见山   结尾如截奔马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 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文章结构的原则：服从主题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符合规律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适用文体</a:t>
            </a:r>
            <a:r>
              <a:rPr b="0" lang="zh-CN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6000" y="3933720"/>
            <a:ext cx="7116840" cy="25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四、文章的语言                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语言是思维的外壳，文章是语言的艺术</a:t>
            </a:r>
            <a:r>
              <a:rPr b="0" lang="zh-CN" sz="2400" spc="-1" strike="noStrike">
                <a:solidFill>
                  <a:srgbClr val="333300"/>
                </a:solidFill>
                <a:latin typeface="微软雅黑"/>
                <a:ea typeface="微软雅黑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</a:t>
            </a:r>
            <a:r>
              <a:rPr b="0" lang="zh-CN" sz="2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在文章中，主题是灵魂；材料是血肉；结构是骨骼；语言是细胞（文章中最小的单位）；文字则是语言的符号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676908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（一）文章语言的基本要求</a:t>
            </a:r>
            <a:br>
              <a:rPr sz="3200"/>
            </a:br>
            <a:br>
              <a:rPr sz="2000"/>
            </a:b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6666"/>
                </a:solidFill>
                <a:latin typeface="微软雅黑"/>
                <a:ea typeface="微软雅黑"/>
              </a:rPr>
              <a:t>准确规范、简明精练、鲜明生动</a:t>
            </a:r>
            <a:r>
              <a:rPr b="0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2852280"/>
            <a:ext cx="6901200" cy="19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）公文语言的基本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   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庄重严谨：准确、规范、严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朴实精练：通俗易懂，简明扼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19280" y="1628640"/>
            <a:ext cx="626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一、公的文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鲜明的政治性       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格式的规范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作者和读者的特定性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法定的约束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1052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二节  公文的特点、作用与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3068640"/>
            <a:ext cx="64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二、公文的作用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约束、指导、知照联系（让有关单位和部门知晓、相互联系和衔接）、 宣传教育、凭证依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450864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、公文的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行政类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10   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事务类：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11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四、公文的格式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380360" y="436572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71640" y="1773360"/>
            <a:ext cx="40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一、请示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二、报告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、意见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四、通知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五、计划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六、总结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七、发言稿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9079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三节  常用公文的写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5" descr=""/>
          <p:cNvPicPr/>
          <p:nvPr/>
        </p:nvPicPr>
        <p:blipFill>
          <a:blip r:embed="rId1"/>
          <a:stretch/>
        </p:blipFill>
        <p:spPr>
          <a:xfrm rot="20766000">
            <a:off x="6084360" y="4076640"/>
            <a:ext cx="1981440" cy="18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981000"/>
            <a:ext cx="726624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3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思考题   </a:t>
            </a:r>
            <a:r>
              <a:rPr b="0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( </a:t>
            </a:r>
            <a:r>
              <a:rPr b="0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部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公文的特点是什么？公文在国家管理活动中的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以某局办公室秘书身份，写一份组织职工外出参加全市春季植树的通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以庆祝五一国际劳动节为背景，写一篇演讲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5229360"/>
            <a:ext cx="1152720" cy="10062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3492360" y="2421000"/>
            <a:ext cx="1008360" cy="288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27640" y="4581360"/>
            <a:ext cx="162108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23:46:24Z</dcterms:created>
  <dc:creator>llm</dc:creator>
  <dc:description/>
  <dc:language>en-US</dc:language>
  <cp:lastModifiedBy>User</cp:lastModifiedBy>
  <dcterms:modified xsi:type="dcterms:W3CDTF">2013-06-05T12:15:30Z</dcterms:modified>
  <cp:revision>57</cp:revision>
  <dc:subject/>
  <dc:title>PowerPoint 演示文稿</dc:title>
</cp:coreProperties>
</file>